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6800-BA49-41E9-9551-7415BDFF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7B1C-0AC7-47AA-BF10-2BAF84CB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881A-E23D-4D71-993D-B20DBEB7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storyteller has his/her own pace. The story itself may dictate the pac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paced can suggest urgency, action, exasperation, exci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e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-paced suggest contemplation, romanticism, relaxation, or simple pleas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e might change – e.g., race to the hospital, birth of child, the miracle of i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84D6-DD89-4615-87FB-AEB11CEDB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7734-A159-4E59-8BE0-71F072F4C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1A42-5D46-4180-B7DF-5FD14D042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9056-5E72-466A-BA4A-755E78AC1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DFDC-5064-4DE6-8C18-70D516B0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E6C2-A642-4BD1-A3C6-90812688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7AD8-F7AA-4B33-8958-29909FC4C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D497-19E7-4C29-8685-4971700FC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09DA-A617-4088-A218-50FE807C1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88C1-A85C-47C6-99B9-4BDE8BE79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efinitions of digital storytelling, but in general, all of them revolve around the combining the long-standing art of telling stories with any variety of multimedia tools including graphics, audio, video, and Web publis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F0B2-A42F-48DA-85DF-3FB63A83B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FC9F-CC13-4859-8716-481E2BF2B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3A22-52A8-4DE3-8FB7-587B1FAE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Inspiration and brainst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-personal, multimedia personal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 in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tion/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de to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5656-679F-45BE-ACE3-AF0E0FEA5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Youth Voices Coast to Coast b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709D-FE4B-411F-B09C-D55AD230F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9AB4-D5D9-404E-A763-783E766B2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hift for many of us and many of our students – those of us who have been coached to distance ourselves and keep to de-emotionalized persp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ard though to cast aside years of non-personal writing experiences and embrace creating something of a personal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 story that deals with the fundamental emotional paradignms – of death and our sense of loss, of love and loneliness, of confidence and vulnerability, of acceptance and rejection – will increase the likelihood that you’re going to hold an audience’s att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37F2-AB42-4257-91C5-9A6BE9E7F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oken work or written narrative, we’re operating at a high rate of closure as we are filling in all the pictures suggested by a text or words from images and memories in our brains…Example (Once upon a midnight drear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igital storytelling the images generally exist prior to a script, as in a family alb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re’s no right way: script vs. images first. Just don’t linger too long with either. The trick is to let the reader fill in some of the missing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Ken Burns effect.  How long do you want to look at a person talking? Better to take a quick glance; then go to images that fill in enhance the person’s story. Use Mary Tsukamoto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3766-D35D-451F-BD0B-A4AF00D03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5C4-0DC0-4BEF-BFCB-52E84C8F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61B-532E-4A24-B98D-A43B73D1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EFB-E46E-4356-BD97-71D3E7FA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CB4-F079-46EA-AC6C-ABB88605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3B37-452E-43F1-B6E2-5ABC7768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80AB-BBF1-4F6F-BD1C-9D3525C7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83F0-96EE-4D04-A7C4-E3083656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5767-E5EE-41D7-BCAC-31CD2F1E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DA6F-2778-4852-A50D-E034A589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65B6-78F4-4A9E-897C-1D065AB2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4240-BE52-47A6-888F-DE9D1BC5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B71-BD5C-48BF-BDF0-1BC075F4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4279-26E1-4822-95F3-E851C594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BF2B-D6CB-4565-B2A4-2F6805E3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909E-2E47-4BAD-9051-1A9F186A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0E0A-1782-4745-A592-7CEF9436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0B10-A086-4E37-8732-9AE5A5EB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3A1-FDB2-4FEE-8C18-3F6D97B1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A8D-CE65-4E18-B51D-68058757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E6B-9DB5-4F6C-B630-617439A6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5EE-A026-4AB5-B55C-470E47E4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FEA-B5D7-4FAB-82ED-98226F45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814-579D-42A9-A2CA-1168E6AE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648-B25C-465C-9F0E-807FF113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3E42-BFC3-4B5F-8DCE-AA92EC86A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9D4C-A8BC-4545-A007-BE0FA26EE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ell Me A Digital Story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2971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tory with a twist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 flipH="1" rot="20363400">
            <a:off x="880200" y="2282760"/>
            <a:ext cx="30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column research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4419720" y="1828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yboard and sequenc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2"/>
          <p:cNvSpPr/>
          <p:nvPr/>
        </p:nvSpPr>
        <p:spPr>
          <a:xfrm rot="20269800">
            <a:off x="4834440" y="5202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3"/>
          <p:cNvSpPr/>
          <p:nvPr/>
        </p:nvSpPr>
        <p:spPr>
          <a:xfrm rot="20045400">
            <a:off x="5195880" y="29318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4"/>
          <p:cNvSpPr/>
          <p:nvPr/>
        </p:nvSpPr>
        <p:spPr>
          <a:xfrm rot="1329600">
            <a:off x="3200040" y="312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r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25909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6"/>
          <p:cNvSpPr/>
          <p:nvPr/>
        </p:nvSpPr>
        <p:spPr>
          <a:xfrm rot="1863600">
            <a:off x="973080" y="461772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to Story 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4952880" y="41911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ivity and hard wor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6858000" y="6248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entury Schoolbook"/>
              </a:rPr>
              <a:t>click here to go to end of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1"/>
          <p:cNvSpPr/>
          <p:nvPr/>
        </p:nvSpPr>
        <p:spPr>
          <a:xfrm>
            <a:off x="457200" y="1522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entury Schoolbook"/>
              </a:rPr>
              <a:t>click on words for a visual of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"/>
          <p:cNvPicPr/>
          <p:nvPr/>
        </p:nvPicPr>
        <p:blipFill>
          <a:blip r:embed="rId1"/>
          <a:srcRect l="2894" t="7784" r="19330" b="8747"/>
          <a:stretch/>
        </p:blipFill>
        <p:spPr>
          <a:xfrm>
            <a:off x="1295280" y="762120"/>
            <a:ext cx="64008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19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1" name="TextBox 6"/>
          <p:cNvSpPr/>
          <p:nvPr/>
        </p:nvSpPr>
        <p:spPr>
          <a:xfrm>
            <a:off x="2971800" y="5791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09960" cy="487692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24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45fd8b38-86e5-41e5-a3ae-d74fb6f71811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28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0" name="TextBox 5"/>
          <p:cNvSpPr/>
          <p:nvPr/>
        </p:nvSpPr>
        <p:spPr>
          <a:xfrm>
            <a:off x="35053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r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422424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33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1981080" y="1143000"/>
          <a:ext cx="525780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143000"/>
                    <a:ext cx="52578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38" name="Picture 4" descr="toolbox"/>
            <p:cNvPicPr/>
            <p:nvPr/>
          </p:nvPicPr>
          <p:blipFill>
            <a:blip r:embed="rId3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0" name="TextBox 5"/>
          <p:cNvSpPr/>
          <p:nvPr/>
        </p:nvSpPr>
        <p:spPr>
          <a:xfrm>
            <a:off x="320040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newmandala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75596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5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43" name="Picture 6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WordArt 7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5" name="TextBox 5"/>
          <p:cNvSpPr/>
          <p:nvPr/>
        </p:nvSpPr>
        <p:spPr>
          <a:xfrm>
            <a:off x="31240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ivit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876920" cy="3666960"/>
          </a:xfrm>
          <a:prstGeom prst="rect">
            <a:avLst/>
          </a:prstGeom>
          <a:ln cap="sq" w="168120">
            <a:solidFill>
              <a:srgbClr val="ffffff"/>
            </a:solidFill>
            <a:miter/>
          </a:ln>
        </p:spPr>
      </p:pic>
      <p:grpSp>
        <p:nvGrpSpPr>
          <p:cNvPr id="147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48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0" name="TextBox 5"/>
          <p:cNvSpPr/>
          <p:nvPr/>
        </p:nvSpPr>
        <p:spPr>
          <a:xfrm>
            <a:off x="274320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095880" cy="471816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53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5" name="TextBox 5"/>
          <p:cNvSpPr/>
          <p:nvPr/>
        </p:nvSpPr>
        <p:spPr>
          <a:xfrm>
            <a:off x="2971800" y="5867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ybo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echnology is always secondary to the storytelling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will I learn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digital storytelling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digital storytelling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gital storytel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ools to create your digital s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ll me a fact and I’ll learn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ll me a truth and I’ll believ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ll me a story and I’ll remember it forev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Digital Storytell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t’s Watch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38080" y="23623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MNOTMOM - A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storycenter.org/momquicktim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ersonal t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601992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at did all the stories have in common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y Digital Storytell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ort, personal multimedia tale told from the heart“ (Daniel Meadow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of digital expression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ories can be created by people everywhere, on any subject, and shared electronically all over the wor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Your Projec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oose a person, place or event that you want to research and then tell its s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ear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the s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load the graph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it all together using storytelling softwa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lls someone or something or some place’s s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ld from 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erson perspectiv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 a report; this is their S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ngt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only have 1 written page and 3 total minutes to tell their stor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inct and to the poi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ictures display a tone, feeling, and communicate beyond what you are say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120" y="1905120"/>
            <a:ext cx="7924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st Bow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http://www.coe.uh.edu/digital-storytelling/dustbowl.h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ersonal T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http://www.digitales.us/story_details.php?story_id=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al Mine Explo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http://www.digitales.us/story_details.php?story_id=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gan</cp:lastModifiedBy>
  <dcterms:modified xsi:type="dcterms:W3CDTF">2008-08-01T19:06:46Z</dcterms:modified>
  <cp:revision>13</cp:revision>
  <dc:subject/>
  <dc:title>Tell Me A Digital Story!</dc:title>
</cp:coreProperties>
</file>